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5365-15A1-4896-B536-A794E87EC3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1578-BA63-49E4-9B35-E67EF59D13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E490-561A-4542-AEB6-C91648F265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DDE5-AD04-4CFB-AB86-59EF4430F3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F780-AC07-4830-8A2E-DEBDB7E367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11EE-7947-4F1A-ABF3-002118A2F7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DBB7-AED0-4062-BEEF-E997B40760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E95E-DFA6-458B-BDE7-4A9ECF36DB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B680-D942-4815-9396-E771B82B23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AEEF-4C72-4851-B892-7044B73CD7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174E-A613-4C6D-9C49-FCB51471CE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A858-346E-454D-818C-C2BEA698B4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C8E2-F010-4245-BD52-8C1040A781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1C32-0B41-46E7-B69B-3113DC9242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25DD-1FC2-4DA9-8646-D08C1A2B97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C0F7-F9C4-49E6-8094-13A0BE8437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BC91-636E-4D32-9E46-170086856D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B0C9-7433-4E8F-86A0-4837BC00CE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7D6B-BDC6-48CD-B623-C3A88865FB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3277-10C9-411F-81F7-39309F6A56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6E52-9F4E-4414-94F6-9CC96B5A92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F09B-C649-4F4E-8293-99D8C21897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BBC4-BFA5-48E1-82B7-999C86BCD3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AF72-14B4-487E-8B6E-3EC2E1BFF3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8E62-4035-4D06-BBF3-7967F63EE2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35FD-1347-436F-93F8-D2D5C5AEF3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0F2E-1F2C-4B94-92E5-F06E99E7E2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0EC2-6CFF-4DCF-B069-347D77D7D5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FF71-609E-4097-BFFB-D275857E98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A97F-64D0-402D-BD83-A670E71F78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F5FF-A736-4F9D-B809-9FDB661C53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BB00-C641-403D-9EE0-4A1A60506C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6AC8-C623-46B8-A655-6E6E132CC1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C896-472F-428D-AB50-1F06DC5A92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46E45-D591-4DAE-97ED-F80854900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3895B-7689-4E1A-ADE2-E9951D0C7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E8CE5-7F26-4465-8FA7-D21A0E6FD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1A29C-89CF-47AF-B511-B54F5E9AC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54471-9098-46F6-9C47-6EFA1ADA9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CEACD-2C9B-41D0-B386-FFCB83082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6AEAD-D0F0-4072-8E60-01BB535DE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0BCB4-3B3B-47F8-82D0-08FE54CCC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B599B-1C43-4678-B6EE-FE4F897F4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5EA3B-E884-4933-A335-A5DF9F354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8E9E6-E6A4-4C42-9FA8-C50472591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CA36-1EE5-45E3-A21C-58841A61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F014C-C24B-468F-A7B7-2786A5CFB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D7360-56F5-4984-B193-DF9BBF82E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B39DE-5551-4919-84FF-F9CB537EC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7556D-4D52-4C55-A116-77E5E4C34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0458B-9690-45B9-AB81-B43B74053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55B6-7610-467A-B347-41D17585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97C5-31B1-4F72-AB81-CB9765420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656B-8D38-4C1A-91BD-6BA0E5E0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3C4FC-E0E3-42EF-85C6-CC7DF7C3B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620B-F9DB-403A-A9A3-081E8319F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D20D-4793-4785-98E3-F3A1277C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C79C-107C-4F9D-BC0D-210AD8E6D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E001-9637-4861-90EF-9CBE43BCF01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F24D-569C-499D-BE62-5841D12ADC1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Five Models of Staff Development</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ks, Dennis and Loucks-Horsley, Susan(1989). Five Models of Staff Development. </a:t>
            </a:r>
            <a:r>
              <a:rPr b="0" i="1" lang="en-US" sz="2800" spc="-1" strike="noStrike">
                <a:solidFill>
                  <a:srgbClr val="000000"/>
                </a:solidFill>
                <a:latin typeface="Arial"/>
              </a:rPr>
              <a:t>Journal of Staff Development. 10 1-2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Observation/Assessment</a:t>
            </a: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eachers receive little or no feedback and in some cases they only observed once every three yea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a powerful staff development model but is perceived by teachers as </a:t>
            </a:r>
            <a:r>
              <a:rPr b="1" lang="en-US" sz="3200" spc="-1" strike="noStrike">
                <a:solidFill>
                  <a:srgbClr val="993300"/>
                </a:solidFill>
                <a:latin typeface="Times New Roman"/>
              </a:rPr>
              <a:t>evalu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ality other forms such as </a:t>
            </a:r>
            <a:r>
              <a:rPr b="1" lang="en-US" sz="3200" spc="-1" strike="noStrike">
                <a:solidFill>
                  <a:srgbClr val="993300"/>
                </a:solidFill>
                <a:latin typeface="Times New Roman"/>
              </a:rPr>
              <a:t>peer coaching</a:t>
            </a:r>
            <a:r>
              <a:rPr b="0" lang="en-US" sz="3200" spc="-1" strike="noStrike">
                <a:solidFill>
                  <a:srgbClr val="000000"/>
                </a:solidFill>
                <a:latin typeface="Times New Roman"/>
              </a:rPr>
              <a:t> and </a:t>
            </a:r>
            <a:r>
              <a:rPr b="1" lang="en-US" sz="3200" spc="-1" strike="noStrike">
                <a:solidFill>
                  <a:srgbClr val="993300"/>
                </a:solidFill>
                <a:latin typeface="Times New Roman"/>
              </a:rPr>
              <a:t>clinical supervision</a:t>
            </a:r>
            <a:r>
              <a:rPr b="0" lang="en-US" sz="3200" spc="-1" strike="noStrike">
                <a:solidFill>
                  <a:srgbClr val="000000"/>
                </a:solidFill>
                <a:latin typeface="Times New Roman"/>
              </a:rPr>
              <a:t> fall into this categ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Underlying Assumptions</a:t>
            </a:r>
            <a:endParaRPr b="0" lang="en-US" sz="4000" spc="-1" strike="noStrike">
              <a:solidFill>
                <a:srgbClr val="420000"/>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flection and analysis are central means of professional growth”.  Loucks-Horsley (1987, p. 61)</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by an individual on his or her own practice can be enhanced by another’s observ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and assessment of classroom teachers can benefit both parties – the observer and the observed</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eachers see positive results from their efforts to change they are more apt to engage in impro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theoretical and research underpinnings</a:t>
            </a:r>
            <a:endParaRPr b="0" lang="en-US" sz="4000" spc="-1" strike="noStrike">
              <a:solidFill>
                <a:srgbClr val="420000"/>
              </a:solidFill>
              <a:latin typeface="Times New Roman"/>
            </a:endParaRPr>
          </a:p>
        </p:txBody>
      </p:sp>
      <p:sp>
        <p:nvSpPr>
          <p:cNvPr id="12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Evaluation</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Greal (1982)</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room observation plays a key role</a:t>
            </a:r>
            <a:endParaRPr b="0" lang="en-US" sz="24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 about reliability</a:t>
            </a:r>
            <a:endParaRPr b="0" lang="en-US" sz="24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ways to increase reliability</a:t>
            </a:r>
            <a:endParaRPr b="0" lang="en-US" sz="2400" spc="-1" strike="noStrike">
              <a:solidFill>
                <a:srgbClr val="000000"/>
              </a:solidFill>
              <a:latin typeface="Times New Roman"/>
            </a:endParaRPr>
          </a:p>
          <a:p>
            <a:pPr lvl="3" marL="1827360" indent="-43812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 the range of what to look for (Madeline Hunter)</a:t>
            </a:r>
            <a:endParaRPr b="0" lang="en-US" sz="2000" spc="-1" strike="noStrike">
              <a:solidFill>
                <a:srgbClr val="000000"/>
              </a:solidFill>
              <a:latin typeface="Times New Roman"/>
            </a:endParaRPr>
          </a:p>
          <a:p>
            <a:pPr lvl="3" marL="1827360" indent="-43812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 pre-conference to increase the knowledge of the observer prior to the observation</a:t>
            </a:r>
            <a:endParaRPr b="0" lang="en-US" sz="2000" spc="-1" strike="noStrike">
              <a:solidFill>
                <a:srgbClr val="000000"/>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Theoretical and Research Underpinnings</a:t>
            </a:r>
            <a:endParaRPr b="0" lang="en-US" sz="4000" spc="-1" strike="noStrike">
              <a:solidFill>
                <a:srgbClr val="420000"/>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anchor="t">
            <a:normAutofit fontScale="96000"/>
          </a:bodyPr>
          <a:p>
            <a:pPr marL="450720" indent="-4507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Supervision</a:t>
            </a:r>
            <a:endParaRPr b="0" lang="en-US" sz="3200" spc="-1" strike="noStrike">
              <a:solidFill>
                <a:srgbClr val="000000"/>
              </a:solidFill>
              <a:latin typeface="Times New Roman"/>
            </a:endParaRPr>
          </a:p>
          <a:p>
            <a:pPr lvl="1" marL="871560" indent="-4186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atthorn (1984)</a:t>
            </a:r>
            <a:endParaRPr b="0" lang="en-US" sz="2800" spc="-1" strike="noStrike">
              <a:solidFill>
                <a:srgbClr val="000000"/>
              </a:solidFill>
              <a:latin typeface="Times New Roman"/>
            </a:endParaRPr>
          </a:p>
          <a:p>
            <a:pPr lvl="2" marL="1322640" indent="-44928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s clinical supervisors (or coaches) alternate unfocused observations with focused observations</a:t>
            </a:r>
            <a:endParaRPr b="0" lang="en-US" sz="2400" spc="-1" strike="noStrike">
              <a:solidFill>
                <a:srgbClr val="000000"/>
              </a:solidFill>
              <a:latin typeface="Times New Roman"/>
            </a:endParaRPr>
          </a:p>
          <a:p>
            <a:pPr lvl="3" marL="1753920" indent="-42048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focused – observer usually takes verbatim notes on all significant behaviors</a:t>
            </a:r>
            <a:endParaRPr b="0" lang="en-US" sz="2000" spc="-1" strike="noStrike">
              <a:solidFill>
                <a:srgbClr val="000000"/>
              </a:solidFill>
              <a:latin typeface="Times New Roman"/>
            </a:endParaRPr>
          </a:p>
          <a:p>
            <a:pPr lvl="4" marL="2205000" indent="-449280">
              <a:spcBef>
                <a:spcPts val="499"/>
              </a:spcBef>
              <a:buClr>
                <a:srgbClr val="cccc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gathered is used to identify strengths and potential problems that are discussed in  a problem-solving feedback conference</a:t>
            </a:r>
            <a:endParaRPr b="0" lang="en-US" sz="2000" spc="-1" strike="noStrike">
              <a:solidFill>
                <a:srgbClr val="000000"/>
              </a:solidFill>
              <a:latin typeface="Times New Roman"/>
            </a:endParaRPr>
          </a:p>
          <a:p>
            <a:pPr lvl="3" marL="1753920" indent="-42048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ed – observer gathers data related to identified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Theoretical and Research Underpinnings</a:t>
            </a:r>
            <a:endParaRPr b="0" lang="en-US" sz="4000" spc="-1" strike="noStrike">
              <a:solidFill>
                <a:srgbClr val="420000"/>
              </a:solidFill>
              <a:latin typeface="Times New Roman"/>
            </a:endParaRPr>
          </a:p>
        </p:txBody>
      </p:sp>
      <p:sp>
        <p:nvSpPr>
          <p:cNvPr id="13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supervision</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ckman (1986)</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 that feedback be to provided teachers based on cognitive levels.</a:t>
            </a:r>
            <a:endParaRPr b="0" lang="en-US" sz="24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w-abstract” receive direct conferences ( problem identification and solution comes from the coach)</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oderate-abstract” receive collaborative conferences (an exchange of perceptions about problems and negotiated solutions)</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igh-abstract” receive nondirective approach (coach or supervisor helps the teacher clarify problems and choose a course of 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Phases of Activity</a:t>
            </a:r>
            <a:endParaRPr b="0" lang="en-US" sz="4000" spc="-1" strike="noStrike">
              <a:solidFill>
                <a:srgbClr val="420000"/>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observation conferenc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dat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observation conferenc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cases, analysis of the observation/assessment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volvement in a Development/ Improvement Process</a:t>
            </a:r>
            <a:endParaRPr b="0" lang="en-US" sz="40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re asked to:</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or adapt curriculum</a:t>
            </a:r>
            <a:endParaRPr b="0" lang="en-US" sz="24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rograms</a:t>
            </a:r>
            <a:endParaRPr b="0" lang="en-US" sz="24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 in a systematic school improvement</a:t>
            </a:r>
            <a:endParaRPr b="0" lang="en-US" sz="24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r all of these with the focus of improving classroom instruction and/or curriculum.</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completion requires the teacher to gain additional knowledge to complete the tas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del focuses on the combination of learnings that result from the involvement of teacher in the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Involvement in a Development/ Improvement Process - Underlying Assumptions</a:t>
            </a:r>
            <a:r>
              <a:rPr b="0" lang="en-US" sz="4000" spc="-1" strike="noStrike">
                <a:solidFill>
                  <a:srgbClr val="420000"/>
                </a:solidFill>
                <a:latin typeface="Times New Roman"/>
              </a:rPr>
              <a:t> </a:t>
            </a:r>
            <a:endParaRPr b="0" lang="en-US" sz="40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s learn more easily when they have a need to know or a problem to solve (Knowles, 1980).</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orking closest to the job best understand what is required to improve their performa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cquire important knowledge or skills through their involvement in school improvement or curriculum development proc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0000"/>
                </a:solidFill>
                <a:latin typeface="Times New Roman"/>
              </a:rPr>
              <a:t>Involvement in a Development/ Improvement Process - Theoretical and Research Underpinnings</a:t>
            </a:r>
            <a:endParaRPr b="0" lang="en-US" sz="3000" spc="-1" strike="noStrike">
              <a:solidFill>
                <a:srgbClr val="420000"/>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iculum Development </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yce and Showers (1988)</a:t>
            </a:r>
            <a:endParaRPr b="0" lang="en-US" sz="24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t has been well established that curriculum implementation is demanding of staff development – essentially, without strong  staff development programs that are appropriately designed a very low level of implementation occurs” (p. 44).</a:t>
            </a:r>
            <a:endParaRPr b="0" lang="en-US" sz="20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ckman (1987)</a:t>
            </a:r>
            <a:endParaRPr b="0" lang="en-US" sz="24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ways teachers can modify a district’s curriculum guide</a:t>
            </a:r>
            <a:endParaRPr b="0" lang="en-US" sz="2000" spc="-1" strike="noStrike">
              <a:solidFill>
                <a:srgbClr val="0000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ing lists of objectives and recommended teaching methods and turning them into a set of usable instructional guides</a:t>
            </a:r>
            <a:endParaRPr b="0" lang="en-US" sz="1800" spc="-1" strike="noStrike">
              <a:solidFill>
                <a:srgbClr val="0000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 the guide to students’ special needs</a:t>
            </a:r>
            <a:endParaRPr b="0" lang="en-US" sz="1800" spc="-1" strike="noStrike">
              <a:solidFill>
                <a:srgbClr val="0000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 the guide by developing optional enrichment units.</a:t>
            </a:r>
            <a:endParaRPr b="0" lang="en-US" sz="1800" spc="-1" strike="noStrike">
              <a:solidFill>
                <a:srgbClr val="000000"/>
              </a:solidFill>
              <a:latin typeface="Times New Roman"/>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0000"/>
                </a:solidFill>
                <a:latin typeface="Times New Roman"/>
              </a:rPr>
              <a:t>Involvement in a Development/ Improvement Process - Theoretical and Research Underpinnings</a:t>
            </a:r>
            <a:endParaRPr b="0" lang="en-US" sz="3000" spc="-1" strike="noStrike">
              <a:solidFill>
                <a:srgbClr val="420000"/>
              </a:solidFill>
              <a:latin typeface="Times New Roman"/>
            </a:endParaRPr>
          </a:p>
        </p:txBody>
      </p:sp>
      <p:sp>
        <p:nvSpPr>
          <p:cNvPr id="1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Development</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atthorn</a:t>
            </a:r>
            <a:endParaRPr b="0" lang="en-US" sz="2000" spc="-1" strike="noStrike">
              <a:solidFill>
                <a:srgbClr val="000000"/>
              </a:solidFill>
              <a:latin typeface="Times New Roman"/>
            </a:endParaRPr>
          </a:p>
          <a:p>
            <a:pPr lvl="2" marL="1378080" indent="-468360">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ies should be done in groups thus teachers will become more cohesive and will share ideas about teaching and learning in general, as well as, on the development task at hand.</a:t>
            </a:r>
            <a:endParaRPr b="0" lang="en-US" sz="18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Improvement</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ucks-Horsley and Hergert (1985)</a:t>
            </a:r>
            <a:endParaRPr b="0" lang="en-US" sz="2000" spc="-1" strike="noStrike">
              <a:solidFill>
                <a:srgbClr val="000000"/>
              </a:solidFill>
              <a:latin typeface="Times New Roman"/>
            </a:endParaRPr>
          </a:p>
          <a:p>
            <a:pPr lvl="2" marL="1378080" indent="-468360">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bed seven action steps in a school improvement process that are based in research on implementation of new practices in schools</a:t>
            </a:r>
            <a:endParaRPr b="0" lang="en-US" sz="1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en (1981)</a:t>
            </a:r>
            <a:endParaRPr b="0" lang="en-US" sz="2000" spc="-1" strike="noStrike">
              <a:solidFill>
                <a:srgbClr val="000000"/>
              </a:solidFill>
              <a:latin typeface="Times New Roman"/>
            </a:endParaRPr>
          </a:p>
          <a:p>
            <a:pPr lvl="2" marL="1378080" indent="-468360">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on effective schools underpins an approach to school improvement through staff develop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ive Models of Staff Development</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ly-guided staff developmen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assessmen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ment in a development/improvement proces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qui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urriculum Development and School Improvement - Phases of Activity</a:t>
            </a:r>
            <a:endParaRPr b="0" lang="en-US" sz="3600" spc="-1" strike="noStrike">
              <a:solidFill>
                <a:srgbClr val="420000"/>
              </a:solidFill>
              <a:latin typeface="Times New Roman"/>
            </a:endParaRPr>
          </a:p>
        </p:txBody>
      </p:sp>
      <p:sp>
        <p:nvSpPr>
          <p:cNvPr id="1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of a problem or need by an individual, a group of teachers, a school faculty, or a district administrator.</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is formulated</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formal or informal</a:t>
            </a:r>
            <a:endParaRPr b="0" lang="en-US" sz="24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 may be immediate or may require brainstorming sessions</a:t>
            </a:r>
            <a:endParaRPr b="0" lang="en-US" sz="20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require consultation with a larger group (i.e., whole faculty)</a:t>
            </a:r>
            <a:endParaRPr b="0" lang="en-US" sz="20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knowledge or skills may be required</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 or produce the produc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a:t>
            </a:r>
            <a:endParaRPr b="0" lang="en-US" sz="4400" spc="-1" strike="noStrike">
              <a:solidFill>
                <a:srgbClr val="420000"/>
              </a:solidFill>
              <a:latin typeface="Times New Roman"/>
            </a:endParaRPr>
          </a:p>
        </p:txBody>
      </p:sp>
      <p:sp>
        <p:nvSpPr>
          <p:cNvPr id="145" name="Text Box 4"/>
          <p:cNvSpPr/>
          <p:nvPr/>
        </p:nvSpPr>
        <p:spPr>
          <a:xfrm>
            <a:off x="609480" y="2209680"/>
            <a:ext cx="807732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i="1" lang="en-US" sz="2400" spc="-1" strike="noStrike">
                <a:solidFill>
                  <a:srgbClr val="000000"/>
                </a:solidFill>
                <a:latin typeface="Times New Roman"/>
              </a:rPr>
              <a:t>the purpose of providing training in any practice is not simply to generate the external visible teaching “moves” that bring that practice to bear in the instructional setting but to generate the conditions that enable the practice to be selected and used appropriately and integratively …a major, perhaps the major, dimension of teaching skill is cognitive in na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ers, Joyce, and Bennett (1987, p. 85-8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a:t>
            </a:r>
            <a:endParaRPr b="0" lang="en-US" sz="4400" spc="-1" strike="noStrike">
              <a:solidFill>
                <a:srgbClr val="420000"/>
              </a:solidFill>
              <a:latin typeface="Times New Roman"/>
            </a:endParaRPr>
          </a:p>
        </p:txBody>
      </p:sp>
      <p:sp>
        <p:nvSpPr>
          <p:cNvPr id="14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ducators equate training with staff developmen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session is conducted with a clear set of objectives or learner outcomes that may include</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reness or knowledg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ll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 - Underlying Assumptions</a:t>
            </a:r>
            <a:endParaRPr b="0" lang="en-US" sz="4400" spc="-1" strike="noStrike">
              <a:solidFill>
                <a:srgbClr val="420000"/>
              </a:solidFill>
              <a:latin typeface="Times New Roman"/>
            </a:endParaRPr>
          </a:p>
        </p:txBody>
      </p:sp>
      <p:sp>
        <p:nvSpPr>
          <p:cNvPr id="14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behaviors and techniques that are worthy of replication by teachers in the classroo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teachers can change their behaviors and learn to replicate behaviors in the classroom that were not previously in their reperto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raining - Theoretical and Research Underpinnings</a:t>
            </a:r>
            <a:endParaRPr b="0" lang="en-US" sz="4000" spc="-1" strike="noStrike">
              <a:solidFill>
                <a:srgbClr val="420000"/>
              </a:solidFill>
              <a:latin typeface="Times New Roman"/>
            </a:endParaRPr>
          </a:p>
        </p:txBody>
      </p:sp>
      <p:sp>
        <p:nvSpPr>
          <p:cNvPr id="15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Model</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yce and Showers (1988)</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he desired outcomes, training might include:</a:t>
            </a:r>
            <a:endParaRPr b="0" lang="en-US" sz="24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ation of theory</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ion or modeling of a skill</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 of a skill under simulated conditions</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about performance</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ching in the workplace</a:t>
            </a:r>
            <a:endParaRPr b="0" lang="en-US" sz="20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ation of components is necessary if the outcome is skill development</a:t>
            </a:r>
            <a:endParaRPr b="0" lang="en-US" sz="2400" spc="-1" strike="noStrike">
              <a:solidFill>
                <a:srgbClr val="000000"/>
              </a:solidFill>
              <a:latin typeface="Times New Roman"/>
            </a:endParaRPr>
          </a:p>
          <a:p>
            <a:pPr lvl="3" marL="1827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raining - Theoretical and Research Underpinnings</a:t>
            </a:r>
            <a:endParaRPr b="0" lang="en-US" sz="4000" spc="-1" strike="noStrike">
              <a:solidFill>
                <a:srgbClr val="420000"/>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Model</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ks</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and peer observation are important as training activities</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cks-Horsley et al. (1987); Sparks (1983)</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ssions spaced one or more weeks apart in order to allow for improved comprehension and so teachers have opportunities for classroom practice and peer coaching are shown to be more effective than “one-shot” sessions</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ks (1983); Wu (1987) and Wood and Kleine (1987) </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out the value of teachers as trainers of their p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 - Phases of activity</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 participants in the planning</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for interaction in the training session among pee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raining, in-classroom assistance in the form of peer observation and coaching is critical to the transfer of more complex teaching ski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a:t>
            </a:r>
            <a:endParaRPr b="0" lang="en-US" sz="4400" spc="-1" strike="noStrike">
              <a:solidFill>
                <a:srgbClr val="420000"/>
              </a:solidFill>
              <a:latin typeface="Times New Roman"/>
            </a:endParaRPr>
          </a:p>
        </p:txBody>
      </p:sp>
      <p:sp>
        <p:nvSpPr>
          <p:cNvPr id="157" name="Text Box 5"/>
          <p:cNvSpPr/>
          <p:nvPr/>
        </p:nvSpPr>
        <p:spPr>
          <a:xfrm>
            <a:off x="1219320" y="2895480"/>
            <a:ext cx="72388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most effective avenue for professional development is cooperative study by teachers themselves into a problem and issues arising from their attempts to make practice consistent with their educational values…[The approach] aims to give greater control over what is to count as valid educational knowledge to tea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varson, 1987, p. 15.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a:t>
            </a:r>
            <a:endParaRPr b="0" lang="en-US" sz="4400" spc="-1" strike="noStrike">
              <a:solidFill>
                <a:srgbClr val="420000"/>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inquiry may be a solitary activity, be done in small groups, or be conducted by school facul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formal or informal</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ccur in the classroom, at a teacher center, or results from a university clas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is an important activity in which teachers should be engaged, although they rarely participate in it other than as “sub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 - Underlying Assumptions</a:t>
            </a:r>
            <a:endParaRPr b="0" lang="en-US" sz="4400" spc="-1" strike="noStrike">
              <a:solidFill>
                <a:srgbClr val="420000"/>
              </a:solidFill>
              <a:latin typeface="Times New Roman"/>
            </a:endParaRPr>
          </a:p>
        </p:txBody>
      </p:sp>
      <p:sp>
        <p:nvSpPr>
          <p:cNvPr id="16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re intelligent, inquiring individuals with legitimate expertise and important experi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re inclined to search for data to answer pressing questions and to reflect on the data to formulate solution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ill develop new understanding as they formulate their questions and collect their own data to answer them. (Loucks-Horsley et al., 198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vidually-guided</a:t>
            </a:r>
            <a:endParaRPr b="0" lang="en-US" sz="4400" spc="-1" strike="noStrike">
              <a:solidFill>
                <a:srgbClr val="420000"/>
              </a:solidFill>
              <a:latin typeface="Times New Roman"/>
            </a:endParaRPr>
          </a:p>
        </p:txBody>
      </p:sp>
      <p:sp>
        <p:nvSpPr>
          <p:cNvPr id="108" name="Text Box 4"/>
          <p:cNvSpPr/>
          <p:nvPr/>
        </p:nvSpPr>
        <p:spPr>
          <a:xfrm>
            <a:off x="762120" y="2590920"/>
            <a:ext cx="7543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5"/>
          <p:cNvSpPr/>
          <p:nvPr/>
        </p:nvSpPr>
        <p:spPr>
          <a:xfrm>
            <a:off x="533520" y="2438280"/>
            <a:ext cx="815328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I have come to feel that the only learning which significantly influences behavior is self-discovered, self-appropriated learn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gers, 1969, p. 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quiry - Theoretical and Research Underpinnings</a:t>
            </a:r>
            <a:endParaRPr b="0" lang="en-US" sz="4000" spc="-1" strike="noStrike">
              <a:solidFill>
                <a:srgbClr val="420000"/>
              </a:solidFill>
              <a:latin typeface="Times New Roman"/>
            </a:endParaRPr>
          </a:p>
        </p:txBody>
      </p:sp>
      <p:sp>
        <p:nvSpPr>
          <p:cNvPr id="16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quiry-oriented teachers</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wey (1933)</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for teachers to take a “reflective action.”</a:t>
            </a:r>
            <a:endParaRPr b="0" lang="en-US" sz="24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ichner (1983)</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ocacy for “teachers as action researchers,” “teacher scholars.” “teacher innovators,” “self-monitoring teachers,” and “teachers as participant ob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quiry - Theoretical and Research Underpinnings</a:t>
            </a:r>
            <a:endParaRPr b="0" lang="en-US" sz="4000" spc="-1" strike="noStrike">
              <a:solidFill>
                <a:srgbClr val="420000"/>
              </a:solidFill>
              <a:latin typeface="Times New Roman"/>
            </a:endParaRPr>
          </a:p>
        </p:txBody>
      </p:sp>
      <p:sp>
        <p:nvSpPr>
          <p:cNvPr id="16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search</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kunoff (1983)</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research and development promotes inquiry into the questions they are asking through close work with researchers (who help with methodology) and staff developers (who help with the creation of ways of sharing their results with others).</a:t>
            </a:r>
            <a:endParaRPr b="0" lang="en-US" sz="18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eberman (1986)</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s server on collaborative teams pursuing answers to schoolwide rather than classroom problems</a:t>
            </a:r>
            <a:endParaRPr b="0" lang="en-US" sz="18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ts (1985)</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 of collaborative research, classroom action research, and teacher support groups in encouraging teacher inquiry.</a:t>
            </a:r>
            <a:endParaRPr b="0" lang="en-US" sz="18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rks (1985)</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action research to help teachers better relate research on teaching to their unique classroo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quiry - Theoretical and Research Underpinnings</a:t>
            </a:r>
            <a:endParaRPr b="0" lang="en-US" sz="4000" spc="-1" strike="noStrike">
              <a:solidFill>
                <a:srgbClr val="420000"/>
              </a:solidFill>
              <a:latin typeface="Times New Roman"/>
            </a:endParaRPr>
          </a:p>
        </p:txBody>
      </p:sp>
      <p:sp>
        <p:nvSpPr>
          <p:cNvPr id="16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 Research</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ckman (1986)</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ocates action research in the form of quality circles, problem-solving groups, and school improvement projects as a means to develop teacher thought.</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 (1987)</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ed classroom research as a means to evaluate their own teaching</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atthorn (1987)</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 research by teams of teachers as a peer-centered option for promoting professional grow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 - Phases of Activity</a:t>
            </a:r>
            <a:endParaRPr b="0" lang="en-US" sz="4400" spc="-1" strike="noStrike">
              <a:solidFill>
                <a:srgbClr val="420000"/>
              </a:solidFill>
              <a:latin typeface="Times New Roman"/>
            </a:endParaRPr>
          </a:p>
        </p:txBody>
      </p:sp>
      <p:sp>
        <p:nvSpPr>
          <p:cNvPr id="16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 probl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ways of collecting data that may range from existing theoretical and research literature to gathering original classroom or school dat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and interpret these dat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are made and new data are gathered to determine the effects of the interven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vidually-guided - Defined</a:t>
            </a: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 through which teachers plan for and pursue activities they believe will promote their own learning.</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by the teach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defined goals and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Underlying Assumptions</a:t>
            </a:r>
            <a:endParaRPr b="0" lang="en-US" sz="4000" spc="-1" strike="noStrike">
              <a:solidFill>
                <a:srgbClr val="42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can judge their own needs and that they are capable of self direction and self-initiated learning.</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s learn most efficiently when they initiate and plan their learning rather than spend their time in irrelevant activities of little intere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otivated when they select their own leaning goals based on their personal of their n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Theoretical and Research Underpinnings</a:t>
            </a:r>
            <a:endParaRPr b="0" lang="en-US" sz="4000" spc="-1" strike="noStrike">
              <a:solidFill>
                <a:srgbClr val="42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 learning theory</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dd (1973) and Knowles (1980)</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ly self-directed</a:t>
            </a:r>
            <a:endParaRPr b="0" lang="en-US" sz="24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mulated by real life tasks and problems</a:t>
            </a:r>
            <a:endParaRPr b="0" lang="en-US" sz="24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Theory</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ine (1989)</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tages of development have different needs</a:t>
            </a:r>
            <a:endParaRPr b="0" lang="en-US" sz="2400" spc="-1" strike="noStrike">
              <a:solidFill>
                <a:srgbClr val="000000"/>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Theoretical and Research Underpinnings</a:t>
            </a:r>
            <a:endParaRPr b="0" lang="en-US" sz="4000" spc="-1" strike="noStrike">
              <a:solidFill>
                <a:srgbClr val="42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styles researcher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nn &amp; Dunn (1978); Gregorc (1979)</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 differ in the way they process information and in the manner they learn</a:t>
            </a:r>
            <a:endParaRPr b="0" lang="en-US" sz="24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based Adoption Model (CBA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l &amp; Loucks (1978)</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individuals learn new behaviors and change their practice, they experience different concerns that in turn requires different types of responses from staff develo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Phases of Activity</a:t>
            </a:r>
            <a:endParaRPr b="0" lang="en-US" sz="40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tion of need or interes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plan to meet the need or interes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arning activit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of whether the learning meets the identified need or inte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Observation/Assessment</a:t>
            </a:r>
            <a:endParaRPr b="0" lang="en-US" sz="4400" spc="-1" strike="noStrike">
              <a:solidFill>
                <a:srgbClr val="420000"/>
              </a:solidFill>
              <a:latin typeface="Times New Roman"/>
            </a:endParaRPr>
          </a:p>
        </p:txBody>
      </p:sp>
      <p:sp>
        <p:nvSpPr>
          <p:cNvPr id="121" name="Text Box 5"/>
          <p:cNvSpPr/>
          <p:nvPr/>
        </p:nvSpPr>
        <p:spPr>
          <a:xfrm>
            <a:off x="533520" y="2895480"/>
            <a:ext cx="8001000" cy="28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Feedback is the breakfast of champion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chard &amp; John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One Minute Mana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21:02:29Z</dcterms:created>
  <dc:creator>David Shellman</dc:creator>
  <dc:description/>
  <dc:language>en-US</dc:language>
  <cp:lastModifiedBy>AEURY</cp:lastModifiedBy>
  <dcterms:modified xsi:type="dcterms:W3CDTF">2011-10-17T14:30:58Z</dcterms:modified>
  <cp:revision>5</cp:revision>
  <dc:subject/>
  <dc:title>Five Models of Staff Development</dc:title>
</cp:coreProperties>
</file>